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DB3-CD08-4762-9A4D-B18808E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643-79D8-4C6E-AE23-336CDBC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8772F-81DC-4A0A-AADD-4A99C36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303BD-FB24-48C6-AA42-3DD92B2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5CBBD-D6B7-4F07-B441-CD31320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4D048-8FE5-4B04-8E4A-2C022B6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4F2E-402E-454F-95A2-12F57C2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24691-993B-4594-84DF-D5D610D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5E3F4-EC3B-4E75-9696-1546DDB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2591-B14D-42C4-923E-20264EEE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0AB3B-2D99-4D62-AB78-39592B1F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69EAF-64E0-4B8D-AAB0-1AE39030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08C-298B-432D-975C-057BC06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59E8B-B57B-467B-AAD9-34D666CD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10FEA-BA5E-4A3C-9486-6842698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00FB2-4331-4BE2-BF88-FF375ED8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0DC27-9C5B-4C1A-9991-AB152B2C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66962-77E2-4F42-A503-EB85254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D489C-7C2F-4872-A963-6BE1346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2259A-4134-49E7-A3D4-25A02B5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28FFB-F452-443D-B332-AC7D7B8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5E4D-A152-40E6-BE27-AE71AD1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FCBEB-23B5-4EBD-97E6-7437A3A8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2B8-ACF9-4624-AA31-A10372AD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35508-E576-4BC3-BEE8-5DCEF966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72E88-ABA0-4861-B136-0C684A6B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F77F-F3D0-46ED-AABC-AEBAAF3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B654-B6F4-42A7-9C3C-636E041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161E-9539-4827-A60D-A9B9264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D8D5-F94D-4357-AD12-F505FEF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1537C-32D8-4CA6-803C-0E1A3DA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A8FD-0E36-4D18-9E5E-71B5812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0079-FD7E-4169-A724-D2CF3413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DE14-2FE9-476A-A49A-E089B23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1161-8418-442B-ABD4-8012739C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7DAE-9D02-48CD-BBF5-71A2022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F2C10-662A-4D2D-BC1E-609445C7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C201-4036-414F-BF33-8E8FCC31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FF3E-CDDE-4740-B39B-760662E6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D1063-943C-4693-9B42-81C5E3C3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75FBB-198F-4292-B09C-58633D0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8FD4D-6773-45ED-942D-DC800EA7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4A4C0-E06B-4102-B4B4-3D15D7F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B9DE6-2D16-4855-80D8-80FC141E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07E92-87CD-4283-96FC-F665409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FF71-906B-4AAB-9D2E-CF3C3EBE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F5AC6-ACBE-4716-9B64-808B62C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2CB6D-87D9-46A8-A610-87FC888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79902-A753-4AA4-BC61-76484B9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D69B6-4F5B-4CD5-B192-646535D3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58B40-1C85-471F-AC56-E4D62A07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57FF9-12D8-411E-876F-DA71655A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18DC8-E2D5-4395-8E8E-A13A908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E939D-D84B-4979-B4AE-DE599F88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94979-E5B5-433F-A770-E1B9783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23467-FF6F-43D3-B4FE-357DC71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E6C4-9F38-4BC3-9144-C6FCDA90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A8291-C1AE-4AD0-9AD4-4875D30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BA4BE-B3CF-4D47-953D-6E6A117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99725-CE71-4079-A9C2-F673D3F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1588B-E1E2-4EDD-B695-DDDB165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EEA6E-4F9F-4E73-8F3A-B99DE023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515E5-E557-498A-961F-1F6BC6C0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68FD9-39AC-4E51-BA77-748F851F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2062A-CF0D-43F4-B906-E2259AF4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3CD49-AE78-49BA-B866-0D2C5FE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74E04-E440-4CA4-8EC4-A5284705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70AC-2DAD-43CC-B601-8F62E94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7BFF3-0476-465B-A115-405D748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D44CF-2373-40E5-91B9-332683C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BCC05-CBFB-4CF8-BF42-A7355BF8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80E16-6560-4D79-AC78-6D36681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2638F-1EAD-484A-922A-1DA6B26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FC84C-EC9A-4859-8274-BC11A8B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B0F9F-CAC2-47BF-BA09-C4C035FC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378D9-A5DA-4E1B-A2C9-1C35281B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7E648-9EA4-4138-9FBB-3E7AD06C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CD7A8-C7FA-4BB0-BB08-671A4898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F2F4-3709-42A5-AEF3-89D299A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10875-66C0-49AF-B42D-13C1C97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A6404-E57F-411B-A8C2-B56DAB10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94C64-A660-495D-A3A5-7509741E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450B6-C300-4341-9847-CC97ABFB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BD3C0-D046-47C4-BBF6-00357D3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72F5F-81C2-467D-A021-C4847A1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59E05-18A7-46A9-A9EC-0F78110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0F074-E33E-4236-A29E-6D8BBC2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07C22-0D0E-41D2-BF65-5DD715FF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9708F-D92B-4DC1-8304-058C4114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6B3F-7DC2-4E71-A4C4-C5076A0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03B12-F568-4381-8590-FF95B60D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26AF5-2750-4AF5-BBAF-88E0F50E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643B0-6618-4E99-918F-20F7923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304B3-CFFE-476E-9BA3-F727FD13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55146-FC15-46E2-9255-39DDC8D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BC9DD-D6C1-4436-8188-EF8A668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F4D77-CEB7-43B7-8502-5CF76C88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A3964-2629-49E6-A108-75081A95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EC860-E432-48C8-B097-90ADE53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855EA-79D6-4F02-BC0C-69D1EDD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028A-93B2-44CE-91A7-66A2F46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E3E1B-0D53-4F2D-806B-CC13FCD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DFEEF-5AF0-43CF-9906-9AEB2890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FA5AF-1FA7-4B60-ABBB-CE146493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00821-CB5A-46AF-B43F-4D24DF9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9C7CF-A752-485A-9DA6-CDC9AE98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E4611-603B-4BE2-94AE-1B902E1E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8E44D-DC2F-41D3-9576-0365AE2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7FDDF-663D-479A-98CE-129A38C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827C1-04DF-406D-AC4A-94D8645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902DE-7FE7-4616-99D6-E1839FB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C9B-4FB3-4F0C-8903-6A1584E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805D-97E0-4142-921E-9EC4472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BB0CF-338E-49D3-B0C3-FF35282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F6FCB-47DF-49FE-8E17-B0F2B7E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571AF-FE0A-4E08-AA0A-10FAE797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D2C49-84B8-4E1B-8B22-FADDEF8C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4BF72-6EF1-492B-962E-7739147C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5F7B5-2D8E-47E3-B876-FF0A9B6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337DB3-C640-4E38-B307-05ACE6E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75208-8DA1-4D97-A2AA-B37365F7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77AF2-D1C3-49D5-9BE3-C4050FA3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231FE-8AB3-4E9F-A4BB-28C3E83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AD0B-CB7F-4208-BDE4-41C309E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E0710-3239-4F84-867B-36A2059E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EFEBE-1A7C-4AFC-9D8A-BDD69D86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71040-98AB-4444-99B7-F6EC902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F84DE-67FB-4D4E-B477-C705855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A016D-78BB-42C8-B728-000B918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D7425-6C8B-43D1-8CB6-FCC472B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08733-E48F-4A5C-9122-842D5005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754B7-D065-41E2-BA77-2E4EEE5E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C95D5-953D-438D-B053-88712B3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3B767-00EA-4E0A-A2B4-7A592A1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8AB-8C91-4C9F-BD53-D6A951E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FC3C3-689C-448F-81E2-3D09152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EB24D-85D7-4CD1-9FE1-919785E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D5539-C265-452E-AD19-CF8E36A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8E6F4-8300-40BB-8C55-7DC7B70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E7343-7962-44AC-B5D5-EA1FF10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B2639-46F9-49AB-A7EA-833C671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44981-DA5D-4695-A362-EE6E4E3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1DF13-4B9D-49F7-87A3-3FCDECBD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66EDF-414F-43B5-A6A7-13A9B2C5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97C81-1D46-4425-8DE6-B6BE2E7F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422-335D-4E56-B1F8-01BA3080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D96B4-6A91-4BD1-9E00-EBD6272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089DD-F338-4293-AC0D-9EB8A1C2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319FC-E80E-4363-9F3D-3F924C9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A978E-430C-46A6-A021-5B0DDF24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7DF76-C83E-4CF7-9B07-6948D8F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05DAA-6B74-4E87-A355-F2B07B3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679AE-4236-4456-B12C-CB8968B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19792-B9C9-4082-BB99-776DC51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B4087-EA25-48E7-9AEE-F250591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FEE10-CA1E-4A1D-AFF7-16DE6433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312E-072D-425E-B75A-0CE5ECD5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E4114-B464-4B8D-B093-DD5D8246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082C8-450C-4FAB-A93C-D7DC5BE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782E0-4668-46C5-97BD-8631D056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1030C-57BE-40DF-9300-E2FD4C1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B3332-BA17-46E7-879F-157D077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AFF56-E1A6-47D0-83A9-65D39A0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BE97F-5AF2-4F61-9710-36D3964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6DD0F-92AB-4E53-B358-E9D24ED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184AB-1554-4ADA-B1A2-11E7AFE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22421-E18E-4EAB-BEC6-5799739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270E-AF37-4D97-9CC2-13A66FA4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5426C-69CD-418E-88C2-0943229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AE54C-2220-468E-A40A-830CEB2A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4CA26-D1C8-4C11-8361-E97AAE6E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7C66-87B9-475E-9323-077F2FA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8469-883F-4C4F-AFEB-CD56FEF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A802-4314-4EB8-ABDD-012EE29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0CAB-BD31-4B1B-A019-9B31763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7F8-274A-4F2E-A605-1491CF27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A252-ED7A-458B-A3DD-A013971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BAB5-3CE2-415E-AFDC-066B287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70EF-5987-48C7-A593-394082A9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4982-D14F-4D1C-A943-49A49BE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312D-FCCE-49B1-9E7E-16258A8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14C2-5427-429E-960A-32F14D04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105A-B7E0-4FFC-AC49-49C416A9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EE50-6AC2-4DC0-A10E-80AFCBB7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7861-3849-4C23-B8D6-62646A0F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E8EB-D474-40E2-9C22-8CAE489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259-1228-4D8B-9884-CAF08C6C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0D60-A980-4A2F-BD9A-5890F587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0AF9-C9D3-409F-8500-A36520A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90C7-CD29-4780-938F-BF89C8F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A375-AC4C-4260-A832-3F128A7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8C03-B9CF-449E-8596-B7F275B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A252-7A4C-41E4-98F3-7E32FA9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6D13-7DAC-4AC6-BCFF-993F76B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ECE6-4F80-4501-91A6-254EF2EA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7E68-719C-48D6-A45C-CF20EBC9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59CE-98FA-4CC9-B537-D52B979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E5E-2833-41CC-B1E9-464EEEB1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6BE19-EE89-4598-AE52-101E975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438D-F6BF-44A9-92AD-6F4EC83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E397-0924-4FFF-8CDC-BB180E83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F03B-FA17-4B95-9A85-AE0581F5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EEA8-48C9-4E88-B100-FA18D85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90EF-23A1-4D03-B313-4C29335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91B3-D512-41D7-A71D-8A074F0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F3F8-F43A-432A-A998-3788AC5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23FA-71A6-4538-A420-E0D704DB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F8AF-EE2D-4A11-BD1E-ECEECC01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228-0219-4C86-9C60-6EF1E1F3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4637-64EC-4387-BD4E-E771B03A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2BBB-9016-4D51-AC3A-4F2F3A09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2FD8E-EAC6-496C-963E-27B8C2D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3FD55-F23B-4653-B251-83692A0E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3D8A-601D-47B0-B0B7-36D9ED2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72DE-966D-4FDD-82FD-57354E1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D6CE-0CA5-43E8-9988-A5C1D3D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D964-2B20-4CF7-A9AE-B0621EA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A67C-8705-46D7-BD43-8BDA7D1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2CB54-3D72-4C51-8419-10A537E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BDF-DACC-4CEF-AD23-2600163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3145C-DA83-4B8D-9C16-50BD9777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D7B57-9E5D-4C0B-BA0A-BBA9F0FC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519C-6BF4-4B85-A0E1-B5CC892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E22E-BCAA-47A3-94E3-C03AE596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13BD-3D88-4F12-B210-42D2C1C5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98393-7E02-411D-86CC-D92426E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535A-FDFE-43D4-8320-9BB237D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829C-EDC7-452A-90FB-E47E9E6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F1DC-EBEE-47CF-9D88-ABFF780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DA06-1ACC-4F5A-8514-009C6A2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297-0FF6-48F6-B2C6-095AA7AD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EFED-7532-445A-B883-91B87844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1FCA-5C05-4A84-9EDD-FDB3123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A0CF-31DA-42EE-98E5-2ECAA50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F0126-4A71-4649-A8F0-EDBBDD7F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2C2E-083C-4518-A5B2-8FD69E2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FF419-A0B7-44BB-A412-79B91908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8B57-17C4-4C10-97F4-BC05F02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6DE17-E0B4-4E43-9982-9BC0EF1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C1779-2185-4B68-AA25-43E7349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54D1-5453-4BF7-A3FE-2C38F54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154-78B8-48BB-843B-32F31D14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91CE-6E0B-49CB-BA1A-9BC55A9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3E41-9B43-463A-B917-1A8727C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6A56-DD73-47D3-9AF2-8EDA1D3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74B37-D795-4C33-A972-53B825DC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E98F-52E6-48CE-BB2E-5D7423C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496D-9FB2-4C73-8ABB-819C943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FFF8-42ED-44E3-97A0-486DAB69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E640F-3347-4002-A5C6-69CF22CC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BE734-2580-462E-8F52-9F17F8F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4939-2A7E-4BC3-9911-6B508C3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EBF-4902-4979-98F4-501D669C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7AFB-B2DC-4505-A54F-AF0D58B79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28E6-AC6B-4F58-B010-4E0A2FED0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3F1-1A6B-4F6C-8CFF-9C8DE3FC1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48A-9128-424A-B23F-BA6E25177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F43F-4F3D-43D2-8A75-7DCDDBE78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35A5-21E7-4ADE-9BE5-3102E36EA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4CCF-B23B-47F0-9742-F89732D0C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674-0AD4-4870-9ACF-8AFD38CA5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AB81-F489-4049-9AF4-DF15513AE4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4308-E353-4FDE-93B6-18BF05353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317-71D8-4F12-AA2A-6387476F2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1D36-940D-4E04-A089-F3DB3DF40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C73-180D-4220-BDC2-992B467F8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7D0-B1BF-441B-858F-5AD3E683D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4400-C96E-40E3-B551-CE72504A3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37BB-ABDE-4BD6-AAB1-C116D4743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4255-EC3D-4EF6-8263-BE12689B79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E0F-71F9-418F-993A-F887EFB6A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4BD-4942-4BAC-986B-0CA638FC7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4AB-4CA8-415F-BB30-D96B6594C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26F-3E00-47D5-B88C-B5288C9530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B04C-044D-487A-99F4-CBAE9EE25E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3ED-D12D-4B12-931D-37C571623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F54-EF78-4AFB-8AF8-296A923F46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31AA-461E-46B3-88E0-185917A9B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593-F0F1-467B-A43C-1C6430329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A581-C743-4941-980D-2C4AEBFF1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E25-6B5A-4994-A06C-7959FF828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E8A-ED6E-4D17-BEA2-D2C19900DD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AAB-ECF4-4510-B8EB-B6138745B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AEA2-7B7C-4D08-A319-73599506A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C91-FE8A-4BF4-990F-3AE9A9D2E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EB9-8706-4C70-A6D1-CE6F17863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0A5-42E2-402D-8D33-91A17EC83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588-8A0F-41EE-9EF7-4B7D713CB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F6FE-CA54-4D92-B146-B03E7BD77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F5B2-D180-4ABA-8562-377496D99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964-6A4A-44E0-8C9D-22F158754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8FE-34F4-41BE-AC1F-9B849BA6E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50920" y="3402000"/>
            <a:ext cx="8677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26920" y="735120"/>
            <a:ext cx="7631280" cy="6078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79640" y="2054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979640" y="450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052720" y="5732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611280" y="739800"/>
            <a:ext cx="7975440" cy="6073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3348000" y="25480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3500280" y="317196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3492360" y="443088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3492360" y="567216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38200" y="1198440"/>
            <a:ext cx="8067600" cy="5038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19280" y="3213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619280" y="5151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72440" cy="485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04240" cy="6141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1619280" y="3927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542880" y="930240"/>
            <a:ext cx="8058240" cy="566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24040" y="981000"/>
            <a:ext cx="7495920" cy="5543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871560" y="1285920"/>
            <a:ext cx="7400880" cy="4286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1258920" y="133524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649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5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